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ADB-329A-4B0A-9C65-670F4CFE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C3C-1E90-492E-915D-76DE2982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0C8-B14E-49FB-8BCD-097FD609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3F0-8F30-479B-BAF3-B4C8870B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5F7-4D01-4253-8135-E16D9612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ADA-B4A6-4BA5-BFD8-FE282339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BA8-91BB-4552-BF6A-3E4447C7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0A0-E83C-40A7-BBED-D2DDE747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39F-39D2-4256-A78B-9EB5403E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8E9-C1F4-4A3E-9600-93706854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114-8638-437E-8B79-E0FAC38D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AC9-C52E-4538-B751-B110095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C169-D0CF-4046-A367-CCB6A0914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sie Lessa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20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1498680"/>
            <a:ext cx="655344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 Portra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hoice- Twin Lens Ref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37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wic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052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h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hoice- Cross Process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3790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re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5438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10:00Z</dcterms:created>
  <dc:creator>bal_smlessard</dc:creator>
  <dc:description/>
  <dc:language>en-US</dc:language>
  <cp:lastModifiedBy>C</cp:lastModifiedBy>
  <dcterms:modified xsi:type="dcterms:W3CDTF">2009-05-22T21:48:38Z</dcterms:modified>
  <cp:revision>2</cp:revision>
  <dc:subject/>
  <dc:title>Susie Lessard Portfolio </dc:title>
</cp:coreProperties>
</file>